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23.png" ContentType="image/png"/>
  <Override PartName="/ppt/media/image32.wmf" ContentType="image/x-wmf"/>
  <Override PartName="/ppt/media/image34.png" ContentType="image/pn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7.png" ContentType="image/png"/>
  <Override PartName="/ppt/media/image27.jpeg" ContentType="image/jpeg"/>
  <Override PartName="/ppt/media/image11.gif" ContentType="image/gif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D2FA-C78C-49AF-8815-4FEBBEA9A02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46C6-130F-4670-971E-E0283F4DEE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8770-C96D-4BE4-9B2C-DB49B696E33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DB7C-6F9E-451B-A54E-1129B3FBED8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6A53-81DD-43C2-A078-7CB105D49DF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0345-FEF0-4E67-A738-82DE1BFF8A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4869-98EF-49BE-B998-71350487512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uth about reality is intang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science knows about reality is a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ode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real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3A39-1232-4B51-8871-48463FF02DD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CD4-84B0-40FE-9D6F-05031E4F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B61-4B8F-4D80-B56C-9410BF06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81DC-627E-445F-B1C4-CD613040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3593-BD7F-4797-B6A6-F8E50392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7FDB-6492-4A5D-A282-36CE1244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3C0D-4C12-42EE-BE8A-E2755FAE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F4C-79DF-4C2D-AB35-9053C258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E03-EFE0-4EF3-9D0B-A12328ED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8657-1408-4278-8728-B0EF02B1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7C5F-0276-4938-AE7B-461E25BB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9E4F-F32F-46C1-B0F1-4A7C4904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485C-3D2E-4467-A1DD-1623ECF2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908F-9320-4A04-855E-C07CC1A2DF00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jpeg"/><Relationship Id="rId3" Type="http://schemas.openxmlformats.org/officeDocument/2006/relationships/image" Target="../media/image25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odelling Theory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Part I: Basics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iago Garcia de Senna Carnei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â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ibeiro de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ünster,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84400"/>
            <a:ext cx="9144000" cy="5538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Earth – Our Environmen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Limits for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34240" y="6019920"/>
            <a:ext cx="22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urce: John B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after David Ruel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1193760" y="15937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 flipH="1">
            <a:off x="1193400" y="57085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681280" y="57862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ity of the phenome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 flipV="1">
            <a:off x="664560" y="1289160"/>
            <a:ext cx="45468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ertainty on basic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070440" y="5200560"/>
            <a:ext cx="233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 System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098040" y="504828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or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789920" y="4210200"/>
            <a:ext cx="108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217320" y="4149720"/>
            <a:ext cx="129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dro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634040" y="2990880"/>
            <a:ext cx="88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1366200" y="200016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686760" y="3143160"/>
            <a:ext cx="96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5912280" y="367668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4781520" y="1916280"/>
            <a:ext cx="207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ial and Econ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7"/>
          <p:cNvSpPr/>
          <p:nvPr/>
        </p:nvSpPr>
        <p:spPr>
          <a:xfrm>
            <a:off x="1743120" y="1457280"/>
            <a:ext cx="6119640" cy="3168720"/>
          </a:xfrm>
          <a:custGeom>
            <a:avLst/>
            <a:gdLst>
              <a:gd name="textAreaLeft" fmla="*/ 0 w 6119640"/>
              <a:gd name="textAreaRight" fmla="*/ 6120000 w 6119640"/>
              <a:gd name="textAreaTop" fmla="*/ 0 h 3168720"/>
              <a:gd name="textAreaBottom" fmla="*/ 3169080 h 3168720"/>
            </a:gdLst>
            <a:ahLst/>
            <a:rect l="textAreaLeft" t="textAreaTop" r="textAreaRight" b="textAreaBottom"/>
            <a:pathLst>
              <a:path w="3855" h="1996">
                <a:moveTo>
                  <a:pt x="0" y="0"/>
                </a:moveTo>
                <a:cubicBezTo>
                  <a:pt x="33" y="272"/>
                  <a:pt x="67" y="544"/>
                  <a:pt x="226" y="771"/>
                </a:cubicBezTo>
                <a:cubicBezTo>
                  <a:pt x="385" y="998"/>
                  <a:pt x="589" y="1180"/>
                  <a:pt x="952" y="1361"/>
                </a:cubicBezTo>
                <a:cubicBezTo>
                  <a:pt x="1315" y="1542"/>
                  <a:pt x="1920" y="1754"/>
                  <a:pt x="2404" y="1860"/>
                </a:cubicBezTo>
                <a:cubicBezTo>
                  <a:pt x="2888" y="1966"/>
                  <a:pt x="3371" y="1981"/>
                  <a:pt x="3855" y="1996"/>
                </a:cubicBezTo>
              </a:path>
            </a:pathLst>
          </a:custGeom>
          <a:noFill/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85800" y="5356080"/>
            <a:ext cx="8312040" cy="10130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f"/>
                </a:solidFill>
                <a:latin typeface="Calibri"/>
                <a:ea typeface="Calibri"/>
              </a:rPr>
              <a:t>simplified representation of a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5e"/>
                </a:solidFill>
                <a:latin typeface="Calibri"/>
                <a:ea typeface="Calibri"/>
              </a:rPr>
              <a:t>Model = entities + attributes + relationships + inter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hat is a Model? 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6" name="Text Box 35"/>
          <p:cNvSpPr/>
          <p:nvPr/>
        </p:nvSpPr>
        <p:spPr>
          <a:xfrm>
            <a:off x="2207880" y="1046160"/>
            <a:ext cx="46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3f"/>
                </a:solidFill>
                <a:latin typeface="Calibri"/>
                <a:ea typeface="Calibri"/>
              </a:rPr>
              <a:t>Deforestation in Amazonia in 202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s_baseline_amazonia"/>
          <p:cNvPicPr/>
          <p:nvPr/>
        </p:nvPicPr>
        <p:blipFill>
          <a:blip r:embed="rId1"/>
          <a:stretch/>
        </p:blipFill>
        <p:spPr>
          <a:xfrm>
            <a:off x="900000" y="1628640"/>
            <a:ext cx="5867640" cy="35625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178" name="Picture 9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3382920" cy="36007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5751360" y="6488280"/>
            <a:ext cx="3392640" cy="368280"/>
          </a:xfrm>
          <a:prstGeom prst="rect">
            <a:avLst/>
          </a:prstGeom>
          <a:solidFill>
            <a:srgbClr val="e8e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5e"/>
                </a:solidFill>
                <a:latin typeface="Calibri"/>
                <a:ea typeface="Calibri"/>
              </a:rPr>
              <a:t>graphics: INPE,  Pesquisa FAP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539640" y="5805360"/>
            <a:ext cx="8458200" cy="7239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d"/>
                </a:solidFill>
                <a:latin typeface="Humnst777 BT"/>
              </a:rPr>
              <a:t>Model = </a:t>
            </a:r>
            <a:r>
              <a:rPr b="1" lang="pt-BR" sz="2400" spc="-1" strike="noStrike">
                <a:solidFill>
                  <a:srgbClr val="0000d4"/>
                </a:solidFill>
                <a:latin typeface="Humnst777 BT"/>
              </a:rPr>
              <a:t>entities</a:t>
            </a:r>
            <a:r>
              <a:rPr b="1" lang="pt-BR" sz="2400" spc="-1" strike="noStrike">
                <a:solidFill>
                  <a:srgbClr val="00007d"/>
                </a:solidFill>
                <a:latin typeface="Humnst777 BT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Humnst777 BT"/>
              </a:rPr>
              <a:t>+ </a:t>
            </a:r>
            <a:r>
              <a:rPr b="1" lang="pt-BR" sz="2400" spc="-1" strike="noStrike">
                <a:solidFill>
                  <a:srgbClr val="ff3300"/>
                </a:solidFill>
                <a:latin typeface="Humnst777 BT"/>
              </a:rPr>
              <a:t>atributes </a:t>
            </a:r>
            <a:r>
              <a:rPr b="1" lang="pt-BR" sz="2400" spc="-1" strike="noStrike">
                <a:solidFill>
                  <a:srgbClr val="00007d"/>
                </a:solidFill>
                <a:latin typeface="Humnst777 BT"/>
              </a:rPr>
              <a:t>+ </a:t>
            </a:r>
            <a:r>
              <a:rPr b="1" lang="pt-BR" sz="2400" spc="-1" strike="noStrike">
                <a:solidFill>
                  <a:srgbClr val="000000"/>
                </a:solidFill>
                <a:latin typeface="Humnst777 BT"/>
              </a:rPr>
              <a:t>relationships </a:t>
            </a:r>
            <a:r>
              <a:rPr b="1" lang="pt-BR" sz="2400" spc="-1" strike="noStrike">
                <a:solidFill>
                  <a:srgbClr val="00007d"/>
                </a:solidFill>
                <a:latin typeface="Humnst777 BT"/>
              </a:rPr>
              <a:t>+ </a:t>
            </a:r>
            <a:r>
              <a:rPr b="1" lang="pt-BR" sz="2400" spc="-1" strike="noStrike">
                <a:solidFill>
                  <a:srgbClr val="339933"/>
                </a:solidFill>
                <a:latin typeface="Humnst777 BT"/>
              </a:rPr>
              <a:t>inter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hat is a model? 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182" name="Group 12"/>
          <p:cNvGrpSpPr/>
          <p:nvPr/>
        </p:nvGrpSpPr>
        <p:grpSpPr>
          <a:xfrm>
            <a:off x="2006640" y="3333600"/>
            <a:ext cx="811080" cy="911160"/>
            <a:chOff x="2006640" y="3333600"/>
            <a:chExt cx="811080" cy="911160"/>
          </a:xfrm>
        </p:grpSpPr>
        <p:pic>
          <p:nvPicPr>
            <p:cNvPr id="183" name="Picture 13" descr="npo000004"/>
            <p:cNvPicPr/>
            <p:nvPr/>
          </p:nvPicPr>
          <p:blipFill>
            <a:blip r:embed="rId1"/>
            <a:stretch/>
          </p:blipFill>
          <p:spPr>
            <a:xfrm>
              <a:off x="2006640" y="3333600"/>
              <a:ext cx="81108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7"/>
            <p:cNvSpPr/>
            <p:nvPr/>
          </p:nvSpPr>
          <p:spPr>
            <a:xfrm>
              <a:off x="2224080" y="3544560"/>
              <a:ext cx="3693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Humnst777 BT"/>
                </a:rPr>
                <a:t>E</a:t>
              </a:r>
              <a:r>
                <a:rPr b="1" lang="pt-BR" sz="2000" spc="-1" strike="noStrike" baseline="-25000">
                  <a:solidFill>
                    <a:srgbClr val="000000"/>
                  </a:solidFill>
                  <a:latin typeface="Humnst777 BT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21"/>
          <p:cNvGrpSpPr/>
          <p:nvPr/>
        </p:nvGrpSpPr>
        <p:grpSpPr>
          <a:xfrm>
            <a:off x="5380200" y="3648240"/>
            <a:ext cx="809640" cy="909360"/>
            <a:chOff x="5380200" y="3648240"/>
            <a:chExt cx="809640" cy="909360"/>
          </a:xfrm>
        </p:grpSpPr>
        <p:pic>
          <p:nvPicPr>
            <p:cNvPr id="186" name="Picture 22" descr="npo000006"/>
            <p:cNvPicPr/>
            <p:nvPr/>
          </p:nvPicPr>
          <p:blipFill>
            <a:blip r:embed="rId2"/>
            <a:stretch/>
          </p:blipFill>
          <p:spPr>
            <a:xfrm>
              <a:off x="5380200" y="3648240"/>
              <a:ext cx="809640" cy="9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10"/>
            <p:cNvSpPr/>
            <p:nvPr/>
          </p:nvSpPr>
          <p:spPr>
            <a:xfrm>
              <a:off x="5596200" y="3859200"/>
              <a:ext cx="3729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Humnst777 BT"/>
                </a:rPr>
                <a:t>E</a:t>
              </a:r>
              <a:r>
                <a:rPr b="1" lang="pt-BR" sz="2000" spc="-1" strike="noStrike" baseline="-25000">
                  <a:solidFill>
                    <a:srgbClr val="000000"/>
                  </a:solidFill>
                  <a:latin typeface="Humnst777 BT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8" name="AutoShape 11"/>
          <p:cNvCxnSpPr/>
          <p:nvPr/>
        </p:nvCxnSpPr>
        <p:spPr>
          <a:xfrm>
            <a:off x="2817720" y="3789000"/>
            <a:ext cx="2563200" cy="315000"/>
          </a:xfrm>
          <a:prstGeom prst="curvedConnector5">
            <a:avLst>
              <a:gd name="adj1" fmla="val 49936"/>
              <a:gd name="adj2" fmla="val 50000"/>
              <a:gd name="adj3" fmla="val 49936"/>
            </a:avLst>
          </a:prstGeom>
          <a:ln w="9360">
            <a:solidFill>
              <a:srgbClr val="000000"/>
            </a:solidFill>
            <a:miter/>
            <a:headEnd len="med" type="stealth" w="med"/>
          </a:ln>
        </p:spPr>
      </p:cxnSp>
      <p:sp>
        <p:nvSpPr>
          <p:cNvPr id="189" name="Text Box 12"/>
          <p:cNvSpPr/>
          <p:nvPr/>
        </p:nvSpPr>
        <p:spPr>
          <a:xfrm>
            <a:off x="4425840" y="403380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Humnst777 BT"/>
              </a:rPr>
              <a:t>ow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AutoShape 13"/>
          <p:cNvCxnSpPr/>
          <p:nvPr/>
        </p:nvCxnSpPr>
        <p:spPr>
          <a:xfrm flipH="1" rot="16200000">
            <a:off x="3941640" y="1804680"/>
            <a:ext cx="315360" cy="3372480"/>
          </a:xfrm>
          <a:prstGeom prst="curvedConnector5">
            <a:avLst>
              <a:gd name="adj1" fmla="val -72685"/>
              <a:gd name="adj2" fmla="val 49994"/>
              <a:gd name="adj3" fmla="val -72685"/>
            </a:avLst>
          </a:prstGeom>
          <a:ln w="19080">
            <a:solidFill>
              <a:srgbClr val="009900"/>
            </a:solidFill>
            <a:miter/>
            <a:tailEnd len="med" type="stealth" w="med"/>
          </a:ln>
        </p:spPr>
      </p:cxnSp>
      <p:sp>
        <p:nvSpPr>
          <p:cNvPr id="191" name="Text Box 14"/>
          <p:cNvSpPr/>
          <p:nvPr/>
        </p:nvSpPr>
        <p:spPr>
          <a:xfrm>
            <a:off x="3957840" y="3102120"/>
            <a:ext cx="6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00"/>
                </a:solidFill>
                <a:latin typeface="Humnst777 BT"/>
              </a:rPr>
              <a:t>c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6370200" y="363852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d4"/>
                </a:solidFill>
                <a:latin typeface="Humnst777 BT"/>
              </a:rPr>
              <a:t>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6225840" y="4011480"/>
            <a:ext cx="156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Humnst777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Humnst777 BT"/>
              </a:rPr>
              <a:t> </a:t>
            </a:r>
            <a:r>
              <a:rPr b="0" lang="pt-BR" sz="2000" spc="-1" strike="noStrike">
                <a:solidFill>
                  <a:srgbClr val="ff0000"/>
                </a:solidFill>
                <a:latin typeface="Humnst777 BT"/>
              </a:rPr>
              <a:t>soil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Humnst777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Humnst777 BT"/>
              </a:rPr>
              <a:t> </a:t>
            </a:r>
            <a:r>
              <a:rPr b="0" lang="pt-BR" sz="2000" spc="-1" strike="noStrike">
                <a:solidFill>
                  <a:srgbClr val="ff0000"/>
                </a:solidFill>
                <a:latin typeface="Humnst777 BT"/>
              </a:rPr>
              <a:t>cover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4824000" y="1773360"/>
            <a:ext cx="38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Humnst777 BT"/>
              </a:rPr>
              <a:t>Deforestation proces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952560" y="300816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d4"/>
                </a:solidFill>
                <a:latin typeface="Humnst777 BT"/>
              </a:rPr>
              <a:t>Far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9"/>
          <p:cNvSpPr/>
          <p:nvPr/>
        </p:nvSpPr>
        <p:spPr>
          <a:xfrm>
            <a:off x="884880" y="329724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Humnst777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Humnst777 BT"/>
              </a:rPr>
              <a:t> </a:t>
            </a:r>
            <a:r>
              <a:rPr b="0" lang="pt-BR" sz="2000" spc="-1" strike="noStrike">
                <a:solidFill>
                  <a:srgbClr val="ff0000"/>
                </a:solidFill>
                <a:latin typeface="Humnst777 BT"/>
              </a:rPr>
              <a:t>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973080" y="2109960"/>
            <a:ext cx="7489800" cy="2879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93"/>
          <p:cNvSpPr/>
          <p:nvPr/>
        </p:nvSpPr>
        <p:spPr>
          <a:xfrm>
            <a:off x="6804000" y="4941720"/>
            <a:ext cx="1944720" cy="115128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4"/>
          <p:cNvSpPr/>
          <p:nvPr/>
        </p:nvSpPr>
        <p:spPr>
          <a:xfrm>
            <a:off x="5148360" y="105264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Dynamic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1" name="CaixaDeTexto 5"/>
          <p:cNvSpPr/>
          <p:nvPr/>
        </p:nvSpPr>
        <p:spPr>
          <a:xfrm>
            <a:off x="6156360" y="66229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Miller and Page 2005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"/>
          <p:cNvSpPr/>
          <p:nvPr/>
        </p:nvSpPr>
        <p:spPr>
          <a:xfrm>
            <a:off x="1187280" y="1628640"/>
            <a:ext cx="2737080" cy="165600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"/>
          <p:cNvSpPr/>
          <p:nvPr/>
        </p:nvSpPr>
        <p:spPr>
          <a:xfrm>
            <a:off x="6300720" y="1628640"/>
            <a:ext cx="2735280" cy="165600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1619280" y="4869000"/>
            <a:ext cx="1944720" cy="1152360"/>
          </a:xfrm>
          <a:prstGeom prst="ellipse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4657680" y="1413000"/>
            <a:ext cx="1008000" cy="194472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4788000" y="4842000"/>
            <a:ext cx="720720" cy="1224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aixaDeTexto 5"/>
          <p:cNvSpPr/>
          <p:nvPr/>
        </p:nvSpPr>
        <p:spPr>
          <a:xfrm>
            <a:off x="1332000" y="1197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ixaDeTexto 5"/>
          <p:cNvSpPr/>
          <p:nvPr/>
        </p:nvSpPr>
        <p:spPr>
          <a:xfrm>
            <a:off x="6413400" y="1197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ime t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aixaDeTexto 5"/>
          <p:cNvSpPr/>
          <p:nvPr/>
        </p:nvSpPr>
        <p:spPr>
          <a:xfrm>
            <a:off x="-441360" y="227664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aixaDeTexto 5"/>
          <p:cNvSpPr/>
          <p:nvPr/>
        </p:nvSpPr>
        <p:spPr>
          <a:xfrm>
            <a:off x="-396720" y="526104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4"/>
          <p:cNvSpPr/>
          <p:nvPr/>
        </p:nvSpPr>
        <p:spPr>
          <a:xfrm>
            <a:off x="25560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8"/>
          <p:cNvSpPr/>
          <p:nvPr/>
        </p:nvSpPr>
        <p:spPr>
          <a:xfrm>
            <a:off x="2340000" y="24922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9"/>
          <p:cNvSpPr/>
          <p:nvPr/>
        </p:nvSpPr>
        <p:spPr>
          <a:xfrm>
            <a:off x="320364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0"/>
          <p:cNvSpPr/>
          <p:nvPr/>
        </p:nvSpPr>
        <p:spPr>
          <a:xfrm>
            <a:off x="2771640" y="2781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1"/>
          <p:cNvSpPr/>
          <p:nvPr/>
        </p:nvSpPr>
        <p:spPr>
          <a:xfrm>
            <a:off x="1692360" y="2205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2"/>
          <p:cNvSpPr/>
          <p:nvPr/>
        </p:nvSpPr>
        <p:spPr>
          <a:xfrm>
            <a:off x="2673360" y="558972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3"/>
          <p:cNvSpPr/>
          <p:nvPr/>
        </p:nvSpPr>
        <p:spPr>
          <a:xfrm>
            <a:off x="212400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4"/>
          <p:cNvSpPr/>
          <p:nvPr/>
        </p:nvSpPr>
        <p:spPr>
          <a:xfrm>
            <a:off x="7451640" y="5661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5"/>
          <p:cNvSpPr/>
          <p:nvPr/>
        </p:nvSpPr>
        <p:spPr>
          <a:xfrm>
            <a:off x="7956720" y="515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6"/>
          <p:cNvSpPr/>
          <p:nvPr/>
        </p:nvSpPr>
        <p:spPr>
          <a:xfrm>
            <a:off x="802800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7"/>
          <p:cNvSpPr/>
          <p:nvPr/>
        </p:nvSpPr>
        <p:spPr>
          <a:xfrm>
            <a:off x="8317080" y="206064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28"/>
          <p:cNvSpPr/>
          <p:nvPr/>
        </p:nvSpPr>
        <p:spPr>
          <a:xfrm>
            <a:off x="7380360" y="30099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9"/>
          <p:cNvSpPr/>
          <p:nvPr/>
        </p:nvSpPr>
        <p:spPr>
          <a:xfrm>
            <a:off x="7524720" y="2276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30"/>
          <p:cNvSpPr/>
          <p:nvPr/>
        </p:nvSpPr>
        <p:spPr>
          <a:xfrm>
            <a:off x="7093080" y="1844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2"/>
          <p:cNvSpPr/>
          <p:nvPr/>
        </p:nvSpPr>
        <p:spPr>
          <a:xfrm>
            <a:off x="1979640" y="3860640"/>
            <a:ext cx="1152360" cy="432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3"/>
          <p:cNvSpPr/>
          <p:nvPr/>
        </p:nvSpPr>
        <p:spPr>
          <a:xfrm>
            <a:off x="7164360" y="3933720"/>
            <a:ext cx="1152720" cy="432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7"/>
          <p:cNvSpPr/>
          <p:nvPr/>
        </p:nvSpPr>
        <p:spPr>
          <a:xfrm>
            <a:off x="2198520" y="5291280"/>
            <a:ext cx="273384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41"/>
          <p:cNvSpPr/>
          <p:nvPr/>
        </p:nvSpPr>
        <p:spPr>
          <a:xfrm>
            <a:off x="2673360" y="5661000"/>
            <a:ext cx="2259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42"/>
          <p:cNvSpPr/>
          <p:nvPr/>
        </p:nvSpPr>
        <p:spPr>
          <a:xfrm>
            <a:off x="5364000" y="5732640"/>
            <a:ext cx="208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43"/>
          <p:cNvSpPr/>
          <p:nvPr/>
        </p:nvSpPr>
        <p:spPr>
          <a:xfrm flipV="1">
            <a:off x="5364000" y="5225760"/>
            <a:ext cx="26593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52"/>
          <p:cNvSpPr/>
          <p:nvPr/>
        </p:nvSpPr>
        <p:spPr>
          <a:xfrm flipV="1">
            <a:off x="4932360" y="5229000"/>
            <a:ext cx="43164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55"/>
          <p:cNvSpPr/>
          <p:nvPr/>
        </p:nvSpPr>
        <p:spPr>
          <a:xfrm flipH="1" flipV="1">
            <a:off x="4932000" y="5300640"/>
            <a:ext cx="43164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59"/>
          <p:cNvSpPr/>
          <p:nvPr/>
        </p:nvSpPr>
        <p:spPr>
          <a:xfrm>
            <a:off x="2843280" y="2852640"/>
            <a:ext cx="20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60"/>
          <p:cNvSpPr/>
          <p:nvPr/>
        </p:nvSpPr>
        <p:spPr>
          <a:xfrm flipV="1">
            <a:off x="2411280" y="2565000"/>
            <a:ext cx="2521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61"/>
          <p:cNvSpPr/>
          <p:nvPr/>
        </p:nvSpPr>
        <p:spPr>
          <a:xfrm>
            <a:off x="2630520" y="1916280"/>
            <a:ext cx="446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62"/>
          <p:cNvSpPr/>
          <p:nvPr/>
        </p:nvSpPr>
        <p:spPr>
          <a:xfrm flipV="1">
            <a:off x="3279600" y="2133720"/>
            <a:ext cx="5037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63"/>
          <p:cNvSpPr/>
          <p:nvPr/>
        </p:nvSpPr>
        <p:spPr>
          <a:xfrm flipV="1">
            <a:off x="1776240" y="2276640"/>
            <a:ext cx="3156120" cy="10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66"/>
          <p:cNvSpPr/>
          <p:nvPr/>
        </p:nvSpPr>
        <p:spPr>
          <a:xfrm>
            <a:off x="5364000" y="3068640"/>
            <a:ext cx="208764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67"/>
          <p:cNvSpPr/>
          <p:nvPr/>
        </p:nvSpPr>
        <p:spPr>
          <a:xfrm flipV="1">
            <a:off x="5364000" y="2777760"/>
            <a:ext cx="2791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68"/>
          <p:cNvSpPr/>
          <p:nvPr/>
        </p:nvSpPr>
        <p:spPr>
          <a:xfrm flipV="1">
            <a:off x="5364000" y="2346480"/>
            <a:ext cx="22291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69"/>
          <p:cNvSpPr/>
          <p:nvPr/>
        </p:nvSpPr>
        <p:spPr>
          <a:xfrm flipH="1" flipV="1">
            <a:off x="4932000" y="2852640"/>
            <a:ext cx="4316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80"/>
          <p:cNvSpPr/>
          <p:nvPr/>
        </p:nvSpPr>
        <p:spPr>
          <a:xfrm flipH="1">
            <a:off x="4932000" y="2349360"/>
            <a:ext cx="4316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83"/>
          <p:cNvSpPr/>
          <p:nvPr/>
        </p:nvSpPr>
        <p:spPr>
          <a:xfrm flipH="1" flipV="1">
            <a:off x="4932000" y="2276640"/>
            <a:ext cx="43164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8449"/>
          <p:cNvSpPr/>
          <p:nvPr/>
        </p:nvSpPr>
        <p:spPr>
          <a:xfrm>
            <a:off x="7269120" y="2610000"/>
            <a:ext cx="974880" cy="591840"/>
          </a:xfrm>
          <a:custGeom>
            <a:avLst/>
            <a:gdLst>
              <a:gd name="textAreaLeft" fmla="*/ 0 w 974880"/>
              <a:gd name="textAreaRight" fmla="*/ 975240 w 974880"/>
              <a:gd name="textAreaTop" fmla="*/ 0 h 591840"/>
              <a:gd name="textAreaBottom" fmla="*/ 592200 h 591840"/>
            </a:gdLst>
            <a:ahLst/>
            <a:rect l="textAreaLeft" t="textAreaTop" r="textAreaRight" b="textAreaBottom"/>
            <a:pathLst>
              <a:path w="1270094" h="689009">
                <a:moveTo>
                  <a:pt x="0" y="526889"/>
                </a:moveTo>
                <a:lnTo>
                  <a:pt x="0" y="526889"/>
                </a:lnTo>
                <a:cubicBezTo>
                  <a:pt x="80620" y="311929"/>
                  <a:pt x="-5992" y="478840"/>
                  <a:pt x="81070" y="391789"/>
                </a:cubicBezTo>
                <a:cubicBezTo>
                  <a:pt x="151303" y="321564"/>
                  <a:pt x="68256" y="377721"/>
                  <a:pt x="135117" y="324239"/>
                </a:cubicBezTo>
                <a:cubicBezTo>
                  <a:pt x="147798" y="314096"/>
                  <a:pt x="160391" y="302768"/>
                  <a:pt x="175652" y="297219"/>
                </a:cubicBezTo>
                <a:cubicBezTo>
                  <a:pt x="210556" y="284528"/>
                  <a:pt x="283745" y="270199"/>
                  <a:pt x="283745" y="270199"/>
                </a:cubicBezTo>
                <a:cubicBezTo>
                  <a:pt x="297257" y="261192"/>
                  <a:pt x="309441" y="249773"/>
                  <a:pt x="324280" y="243179"/>
                </a:cubicBezTo>
                <a:cubicBezTo>
                  <a:pt x="324309" y="243166"/>
                  <a:pt x="425602" y="209410"/>
                  <a:pt x="445884" y="202650"/>
                </a:cubicBezTo>
                <a:lnTo>
                  <a:pt x="486419" y="189140"/>
                </a:lnTo>
                <a:cubicBezTo>
                  <a:pt x="499931" y="184637"/>
                  <a:pt x="515103" y="183530"/>
                  <a:pt x="526954" y="175630"/>
                </a:cubicBezTo>
                <a:cubicBezTo>
                  <a:pt x="540466" y="166623"/>
                  <a:pt x="552563" y="155006"/>
                  <a:pt x="567489" y="148610"/>
                </a:cubicBezTo>
                <a:cubicBezTo>
                  <a:pt x="620361" y="125954"/>
                  <a:pt x="648110" y="144406"/>
                  <a:pt x="702605" y="108080"/>
                </a:cubicBezTo>
                <a:cubicBezTo>
                  <a:pt x="716117" y="99073"/>
                  <a:pt x="728616" y="88321"/>
                  <a:pt x="743140" y="81060"/>
                </a:cubicBezTo>
                <a:cubicBezTo>
                  <a:pt x="764738" y="70262"/>
                  <a:pt x="817519" y="59811"/>
                  <a:pt x="837722" y="54040"/>
                </a:cubicBezTo>
                <a:cubicBezTo>
                  <a:pt x="851417" y="50128"/>
                  <a:pt x="864562" y="44442"/>
                  <a:pt x="878257" y="40530"/>
                </a:cubicBezTo>
                <a:cubicBezTo>
                  <a:pt x="896112" y="35429"/>
                  <a:pt x="914448" y="32121"/>
                  <a:pt x="932303" y="27020"/>
                </a:cubicBezTo>
                <a:cubicBezTo>
                  <a:pt x="1067981" y="-11741"/>
                  <a:pt x="857939" y="42231"/>
                  <a:pt x="1026885" y="0"/>
                </a:cubicBezTo>
                <a:cubicBezTo>
                  <a:pt x="1172565" y="22410"/>
                  <a:pt x="1176403" y="-12442"/>
                  <a:pt x="1243071" y="67550"/>
                </a:cubicBezTo>
                <a:cubicBezTo>
                  <a:pt x="1253467" y="80023"/>
                  <a:pt x="1261086" y="94570"/>
                  <a:pt x="1270094" y="108080"/>
                </a:cubicBezTo>
                <a:cubicBezTo>
                  <a:pt x="1261086" y="189140"/>
                  <a:pt x="1270946" y="274612"/>
                  <a:pt x="1243071" y="351259"/>
                </a:cubicBezTo>
                <a:cubicBezTo>
                  <a:pt x="1231971" y="381780"/>
                  <a:pt x="1192812" y="395030"/>
                  <a:pt x="1162001" y="405299"/>
                </a:cubicBezTo>
                <a:cubicBezTo>
                  <a:pt x="1060114" y="439257"/>
                  <a:pt x="1185703" y="393450"/>
                  <a:pt x="1080931" y="445829"/>
                </a:cubicBezTo>
                <a:cubicBezTo>
                  <a:pt x="1068192" y="452198"/>
                  <a:pt x="1053135" y="452970"/>
                  <a:pt x="1040396" y="459339"/>
                </a:cubicBezTo>
                <a:cubicBezTo>
                  <a:pt x="935624" y="511718"/>
                  <a:pt x="1061213" y="465911"/>
                  <a:pt x="959326" y="499869"/>
                </a:cubicBezTo>
                <a:cubicBezTo>
                  <a:pt x="945815" y="513379"/>
                  <a:pt x="936187" y="532493"/>
                  <a:pt x="918792" y="540399"/>
                </a:cubicBezTo>
                <a:cubicBezTo>
                  <a:pt x="884980" y="555766"/>
                  <a:pt x="845932" y="555675"/>
                  <a:pt x="810698" y="567419"/>
                </a:cubicBezTo>
                <a:lnTo>
                  <a:pt x="770164" y="580929"/>
                </a:lnTo>
                <a:cubicBezTo>
                  <a:pt x="761156" y="589936"/>
                  <a:pt x="754849" y="602932"/>
                  <a:pt x="743140" y="607949"/>
                </a:cubicBezTo>
                <a:cubicBezTo>
                  <a:pt x="729899" y="613623"/>
                  <a:pt x="601391" y="633441"/>
                  <a:pt x="594512" y="634969"/>
                </a:cubicBezTo>
                <a:cubicBezTo>
                  <a:pt x="580609" y="638058"/>
                  <a:pt x="567943" y="645686"/>
                  <a:pt x="553977" y="648479"/>
                </a:cubicBezTo>
                <a:cubicBezTo>
                  <a:pt x="522748" y="654724"/>
                  <a:pt x="490729" y="656293"/>
                  <a:pt x="459396" y="661989"/>
                </a:cubicBezTo>
                <a:cubicBezTo>
                  <a:pt x="422070" y="668775"/>
                  <a:pt x="399545" y="677433"/>
                  <a:pt x="364814" y="689009"/>
                </a:cubicBezTo>
                <a:cubicBezTo>
                  <a:pt x="265729" y="684506"/>
                  <a:pt x="166430" y="683408"/>
                  <a:pt x="67558" y="675499"/>
                </a:cubicBezTo>
                <a:cubicBezTo>
                  <a:pt x="53361" y="674363"/>
                  <a:pt x="35303" y="673578"/>
                  <a:pt x="27024" y="661989"/>
                </a:cubicBezTo>
                <a:cubicBezTo>
                  <a:pt x="-4273" y="618179"/>
                  <a:pt x="4504" y="549406"/>
                  <a:pt x="0" y="526889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8450"/>
          <p:cNvSpPr/>
          <p:nvPr/>
        </p:nvSpPr>
        <p:spPr>
          <a:xfrm>
            <a:off x="6904080" y="1755720"/>
            <a:ext cx="1716120" cy="865080"/>
          </a:xfrm>
          <a:custGeom>
            <a:avLst/>
            <a:gdLst>
              <a:gd name="textAreaLeft" fmla="*/ 0 w 1716120"/>
              <a:gd name="textAreaRight" fmla="*/ 1716480 w 17161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715978" h="864639">
                <a:moveTo>
                  <a:pt x="0" y="162120"/>
                </a:moveTo>
                <a:lnTo>
                  <a:pt x="0" y="162120"/>
                </a:lnTo>
                <a:cubicBezTo>
                  <a:pt x="27023" y="130597"/>
                  <a:pt x="51709" y="96908"/>
                  <a:pt x="81070" y="67550"/>
                </a:cubicBezTo>
                <a:cubicBezTo>
                  <a:pt x="92553" y="56068"/>
                  <a:pt x="109130" y="50925"/>
                  <a:pt x="121605" y="40530"/>
                </a:cubicBezTo>
                <a:cubicBezTo>
                  <a:pt x="136284" y="28299"/>
                  <a:pt x="148628" y="13510"/>
                  <a:pt x="162139" y="0"/>
                </a:cubicBezTo>
                <a:cubicBezTo>
                  <a:pt x="297256" y="4503"/>
                  <a:pt x="433409" y="-3789"/>
                  <a:pt x="567489" y="13510"/>
                </a:cubicBezTo>
                <a:cubicBezTo>
                  <a:pt x="581613" y="15332"/>
                  <a:pt x="574631" y="41303"/>
                  <a:pt x="581000" y="54040"/>
                </a:cubicBezTo>
                <a:cubicBezTo>
                  <a:pt x="605446" y="102928"/>
                  <a:pt x="601809" y="92499"/>
                  <a:pt x="648558" y="108080"/>
                </a:cubicBezTo>
                <a:cubicBezTo>
                  <a:pt x="671078" y="130597"/>
                  <a:pt x="698451" y="149134"/>
                  <a:pt x="716117" y="175630"/>
                </a:cubicBezTo>
                <a:cubicBezTo>
                  <a:pt x="725125" y="189140"/>
                  <a:pt x="729370" y="207555"/>
                  <a:pt x="743140" y="216160"/>
                </a:cubicBezTo>
                <a:cubicBezTo>
                  <a:pt x="767296" y="231256"/>
                  <a:pt x="824210" y="243180"/>
                  <a:pt x="824210" y="243180"/>
                </a:cubicBezTo>
                <a:cubicBezTo>
                  <a:pt x="873753" y="238677"/>
                  <a:pt x="923848" y="238314"/>
                  <a:pt x="972838" y="229670"/>
                </a:cubicBezTo>
                <a:cubicBezTo>
                  <a:pt x="1000889" y="224720"/>
                  <a:pt x="1025540" y="205229"/>
                  <a:pt x="1053907" y="202650"/>
                </a:cubicBezTo>
                <a:cubicBezTo>
                  <a:pt x="1137964" y="195009"/>
                  <a:pt x="1214930" y="190571"/>
                  <a:pt x="1297117" y="175630"/>
                </a:cubicBezTo>
                <a:cubicBezTo>
                  <a:pt x="1315387" y="172309"/>
                  <a:pt x="1333148" y="166623"/>
                  <a:pt x="1351163" y="162120"/>
                </a:cubicBezTo>
                <a:cubicBezTo>
                  <a:pt x="1409714" y="166623"/>
                  <a:pt x="1468494" y="168769"/>
                  <a:pt x="1526815" y="175630"/>
                </a:cubicBezTo>
                <a:cubicBezTo>
                  <a:pt x="1545257" y="177799"/>
                  <a:pt x="1564251" y="180836"/>
                  <a:pt x="1580861" y="189140"/>
                </a:cubicBezTo>
                <a:cubicBezTo>
                  <a:pt x="1729243" y="263322"/>
                  <a:pt x="1471377" y="170662"/>
                  <a:pt x="1648419" y="229670"/>
                </a:cubicBezTo>
                <a:cubicBezTo>
                  <a:pt x="1673555" y="254802"/>
                  <a:pt x="1685420" y="263133"/>
                  <a:pt x="1702466" y="297220"/>
                </a:cubicBezTo>
                <a:cubicBezTo>
                  <a:pt x="1708835" y="309957"/>
                  <a:pt x="1711474" y="324240"/>
                  <a:pt x="1715978" y="337750"/>
                </a:cubicBezTo>
                <a:cubicBezTo>
                  <a:pt x="1711474" y="400796"/>
                  <a:pt x="1709852" y="464115"/>
                  <a:pt x="1702466" y="526889"/>
                </a:cubicBezTo>
                <a:cubicBezTo>
                  <a:pt x="1700802" y="541032"/>
                  <a:pt x="1697232" y="555831"/>
                  <a:pt x="1688954" y="567419"/>
                </a:cubicBezTo>
                <a:cubicBezTo>
                  <a:pt x="1642585" y="632327"/>
                  <a:pt x="1627971" y="623771"/>
                  <a:pt x="1553838" y="648479"/>
                </a:cubicBezTo>
                <a:lnTo>
                  <a:pt x="1513303" y="661989"/>
                </a:lnTo>
                <a:cubicBezTo>
                  <a:pt x="1481776" y="657486"/>
                  <a:pt x="1449226" y="657629"/>
                  <a:pt x="1418722" y="648479"/>
                </a:cubicBezTo>
                <a:cubicBezTo>
                  <a:pt x="1338621" y="624451"/>
                  <a:pt x="1412393" y="625051"/>
                  <a:pt x="1351163" y="594439"/>
                </a:cubicBezTo>
                <a:cubicBezTo>
                  <a:pt x="1325685" y="581702"/>
                  <a:pt x="1297117" y="576426"/>
                  <a:pt x="1270094" y="567419"/>
                </a:cubicBezTo>
                <a:lnTo>
                  <a:pt x="1189024" y="540399"/>
                </a:lnTo>
                <a:lnTo>
                  <a:pt x="1148489" y="526889"/>
                </a:lnTo>
                <a:cubicBezTo>
                  <a:pt x="1094140" y="535946"/>
                  <a:pt x="1064882" y="529425"/>
                  <a:pt x="1026884" y="567419"/>
                </a:cubicBezTo>
                <a:cubicBezTo>
                  <a:pt x="1015402" y="578900"/>
                  <a:pt x="1012082" y="597257"/>
                  <a:pt x="999861" y="607949"/>
                </a:cubicBezTo>
                <a:cubicBezTo>
                  <a:pt x="975418" y="629334"/>
                  <a:pt x="918791" y="661989"/>
                  <a:pt x="918791" y="661989"/>
                </a:cubicBezTo>
                <a:cubicBezTo>
                  <a:pt x="878254" y="722787"/>
                  <a:pt x="880508" y="741924"/>
                  <a:pt x="824210" y="770069"/>
                </a:cubicBezTo>
                <a:cubicBezTo>
                  <a:pt x="811471" y="776438"/>
                  <a:pt x="797187" y="779076"/>
                  <a:pt x="783675" y="783579"/>
                </a:cubicBezTo>
                <a:cubicBezTo>
                  <a:pt x="758541" y="808710"/>
                  <a:pt x="750204" y="820578"/>
                  <a:pt x="716117" y="837619"/>
                </a:cubicBezTo>
                <a:cubicBezTo>
                  <a:pt x="696733" y="847310"/>
                  <a:pt x="638851" y="860311"/>
                  <a:pt x="621535" y="864639"/>
                </a:cubicBezTo>
                <a:cubicBezTo>
                  <a:pt x="585504" y="860136"/>
                  <a:pt x="547568" y="863537"/>
                  <a:pt x="513442" y="851129"/>
                </a:cubicBezTo>
                <a:cubicBezTo>
                  <a:pt x="495485" y="844600"/>
                  <a:pt x="487586" y="822830"/>
                  <a:pt x="472907" y="810599"/>
                </a:cubicBezTo>
                <a:cubicBezTo>
                  <a:pt x="460432" y="800204"/>
                  <a:pt x="445884" y="792586"/>
                  <a:pt x="432372" y="783579"/>
                </a:cubicBezTo>
                <a:lnTo>
                  <a:pt x="378326" y="675499"/>
                </a:lnTo>
                <a:cubicBezTo>
                  <a:pt x="369318" y="657486"/>
                  <a:pt x="357671" y="640565"/>
                  <a:pt x="351302" y="621459"/>
                </a:cubicBezTo>
                <a:cubicBezTo>
                  <a:pt x="346798" y="607949"/>
                  <a:pt x="345119" y="593140"/>
                  <a:pt x="337791" y="580929"/>
                </a:cubicBezTo>
                <a:cubicBezTo>
                  <a:pt x="331237" y="570006"/>
                  <a:pt x="318411" y="564099"/>
                  <a:pt x="310767" y="553909"/>
                </a:cubicBezTo>
                <a:cubicBezTo>
                  <a:pt x="291280" y="527930"/>
                  <a:pt x="283743" y="490862"/>
                  <a:pt x="256721" y="472850"/>
                </a:cubicBezTo>
                <a:lnTo>
                  <a:pt x="135116" y="391790"/>
                </a:lnTo>
                <a:lnTo>
                  <a:pt x="94581" y="364770"/>
                </a:lnTo>
                <a:cubicBezTo>
                  <a:pt x="33469" y="273111"/>
                  <a:pt x="63500" y="306672"/>
                  <a:pt x="13511" y="256690"/>
                </a:cubicBezTo>
                <a:cubicBezTo>
                  <a:pt x="-5697" y="199071"/>
                  <a:pt x="2252" y="177882"/>
                  <a:pt x="0" y="16212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8451"/>
          <p:cNvSpPr/>
          <p:nvPr/>
        </p:nvSpPr>
        <p:spPr>
          <a:xfrm>
            <a:off x="2228760" y="1716120"/>
            <a:ext cx="1233720" cy="1027080"/>
          </a:xfrm>
          <a:custGeom>
            <a:avLst/>
            <a:gdLst>
              <a:gd name="textAreaLeft" fmla="*/ 0 w 1233720"/>
              <a:gd name="textAreaRight" fmla="*/ 1234080 w 123372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1234703" h="1026758">
                <a:moveTo>
                  <a:pt x="1203685" y="405299"/>
                </a:moveTo>
                <a:lnTo>
                  <a:pt x="1203685" y="405299"/>
                </a:lnTo>
                <a:cubicBezTo>
                  <a:pt x="1199181" y="445829"/>
                  <a:pt x="1204111" y="488565"/>
                  <a:pt x="1190173" y="526889"/>
                </a:cubicBezTo>
                <a:cubicBezTo>
                  <a:pt x="1184623" y="542149"/>
                  <a:pt x="1161121" y="542427"/>
                  <a:pt x="1149638" y="553908"/>
                </a:cubicBezTo>
                <a:cubicBezTo>
                  <a:pt x="1138156" y="565389"/>
                  <a:pt x="1129877" y="579915"/>
                  <a:pt x="1122615" y="594438"/>
                </a:cubicBezTo>
                <a:cubicBezTo>
                  <a:pt x="1088635" y="662390"/>
                  <a:pt x="1140257" y="630840"/>
                  <a:pt x="1055057" y="716028"/>
                </a:cubicBezTo>
                <a:cubicBezTo>
                  <a:pt x="1023046" y="748035"/>
                  <a:pt x="992795" y="781813"/>
                  <a:pt x="946964" y="797088"/>
                </a:cubicBezTo>
                <a:cubicBezTo>
                  <a:pt x="933452" y="801591"/>
                  <a:pt x="919168" y="804229"/>
                  <a:pt x="906429" y="810598"/>
                </a:cubicBezTo>
                <a:cubicBezTo>
                  <a:pt x="891905" y="817859"/>
                  <a:pt x="880733" y="831024"/>
                  <a:pt x="865894" y="837618"/>
                </a:cubicBezTo>
                <a:cubicBezTo>
                  <a:pt x="791357" y="870742"/>
                  <a:pt x="789924" y="859986"/>
                  <a:pt x="717266" y="878148"/>
                </a:cubicBezTo>
                <a:cubicBezTo>
                  <a:pt x="637735" y="898028"/>
                  <a:pt x="700358" y="902215"/>
                  <a:pt x="568638" y="918678"/>
                </a:cubicBezTo>
                <a:cubicBezTo>
                  <a:pt x="513989" y="925508"/>
                  <a:pt x="421902" y="936376"/>
                  <a:pt x="365963" y="945698"/>
                </a:cubicBezTo>
                <a:cubicBezTo>
                  <a:pt x="343310" y="949473"/>
                  <a:pt x="320561" y="953166"/>
                  <a:pt x="298405" y="959208"/>
                </a:cubicBezTo>
                <a:cubicBezTo>
                  <a:pt x="270924" y="966702"/>
                  <a:pt x="241037" y="970429"/>
                  <a:pt x="217335" y="986228"/>
                </a:cubicBezTo>
                <a:cubicBezTo>
                  <a:pt x="164949" y="1021148"/>
                  <a:pt x="192205" y="1008114"/>
                  <a:pt x="136265" y="1026758"/>
                </a:cubicBezTo>
                <a:cubicBezTo>
                  <a:pt x="100234" y="1022255"/>
                  <a:pt x="61887" y="1026732"/>
                  <a:pt x="28172" y="1013248"/>
                </a:cubicBezTo>
                <a:cubicBezTo>
                  <a:pt x="13096" y="1007218"/>
                  <a:pt x="1773" y="988944"/>
                  <a:pt x="1149" y="972718"/>
                </a:cubicBezTo>
                <a:cubicBezTo>
                  <a:pt x="-2836" y="869120"/>
                  <a:pt x="3992" y="765112"/>
                  <a:pt x="14661" y="661988"/>
                </a:cubicBezTo>
                <a:cubicBezTo>
                  <a:pt x="17592" y="633657"/>
                  <a:pt x="32676" y="607948"/>
                  <a:pt x="41684" y="580928"/>
                </a:cubicBezTo>
                <a:lnTo>
                  <a:pt x="68707" y="499869"/>
                </a:lnTo>
                <a:cubicBezTo>
                  <a:pt x="87805" y="404393"/>
                  <a:pt x="74957" y="454100"/>
                  <a:pt x="109242" y="351259"/>
                </a:cubicBezTo>
                <a:lnTo>
                  <a:pt x="122754" y="310729"/>
                </a:lnTo>
                <a:cubicBezTo>
                  <a:pt x="127258" y="297219"/>
                  <a:pt x="128365" y="282048"/>
                  <a:pt x="136265" y="270199"/>
                </a:cubicBezTo>
                <a:lnTo>
                  <a:pt x="163289" y="229669"/>
                </a:lnTo>
                <a:cubicBezTo>
                  <a:pt x="233002" y="20553"/>
                  <a:pt x="153102" y="236529"/>
                  <a:pt x="217335" y="108079"/>
                </a:cubicBezTo>
                <a:cubicBezTo>
                  <a:pt x="230824" y="81105"/>
                  <a:pt x="228829" y="46378"/>
                  <a:pt x="257870" y="27020"/>
                </a:cubicBezTo>
                <a:cubicBezTo>
                  <a:pt x="271307" y="18063"/>
                  <a:pt x="392719" y="44"/>
                  <a:pt x="392986" y="0"/>
                </a:cubicBezTo>
                <a:cubicBezTo>
                  <a:pt x="442529" y="4503"/>
                  <a:pt x="492624" y="4866"/>
                  <a:pt x="541614" y="13510"/>
                </a:cubicBezTo>
                <a:cubicBezTo>
                  <a:pt x="541621" y="13511"/>
                  <a:pt x="642948" y="47283"/>
                  <a:pt x="663219" y="54039"/>
                </a:cubicBezTo>
                <a:lnTo>
                  <a:pt x="946964" y="148609"/>
                </a:lnTo>
                <a:cubicBezTo>
                  <a:pt x="989776" y="162878"/>
                  <a:pt x="990615" y="159208"/>
                  <a:pt x="1028033" y="189139"/>
                </a:cubicBezTo>
                <a:cubicBezTo>
                  <a:pt x="1037980" y="197096"/>
                  <a:pt x="1043663" y="210463"/>
                  <a:pt x="1055057" y="216159"/>
                </a:cubicBezTo>
                <a:cubicBezTo>
                  <a:pt x="1071667" y="224463"/>
                  <a:pt x="1091316" y="224334"/>
                  <a:pt x="1109103" y="229669"/>
                </a:cubicBezTo>
                <a:cubicBezTo>
                  <a:pt x="1136387" y="237853"/>
                  <a:pt x="1190173" y="256689"/>
                  <a:pt x="1190173" y="256689"/>
                </a:cubicBezTo>
                <a:cubicBezTo>
                  <a:pt x="1194677" y="270199"/>
                  <a:pt x="1197316" y="284482"/>
                  <a:pt x="1203685" y="297219"/>
                </a:cubicBezTo>
                <a:cubicBezTo>
                  <a:pt x="1210947" y="311742"/>
                  <a:pt x="1223446" y="323226"/>
                  <a:pt x="1230708" y="337749"/>
                </a:cubicBezTo>
                <a:cubicBezTo>
                  <a:pt x="1247069" y="370466"/>
                  <a:pt x="1208189" y="394041"/>
                  <a:pt x="1203685" y="405299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8452"/>
          <p:cNvSpPr/>
          <p:nvPr/>
        </p:nvSpPr>
        <p:spPr>
          <a:xfrm>
            <a:off x="1554120" y="2054160"/>
            <a:ext cx="1513080" cy="109368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093680"/>
              <a:gd name="textAreaBottom" fmla="*/ 1094040 h 1093680"/>
            </a:gdLst>
            <a:ahLst/>
            <a:rect l="textAreaLeft" t="textAreaTop" r="textAreaRight" b="textAreaBottom"/>
            <a:pathLst>
              <a:path w="1513816" h="1094308">
                <a:moveTo>
                  <a:pt x="378473" y="229669"/>
                </a:moveTo>
                <a:lnTo>
                  <a:pt x="378473" y="229669"/>
                </a:lnTo>
                <a:cubicBezTo>
                  <a:pt x="382977" y="274702"/>
                  <a:pt x="385102" y="320037"/>
                  <a:pt x="391985" y="364769"/>
                </a:cubicBezTo>
                <a:cubicBezTo>
                  <a:pt x="394151" y="378844"/>
                  <a:pt x="402948" y="391288"/>
                  <a:pt x="405496" y="405299"/>
                </a:cubicBezTo>
                <a:cubicBezTo>
                  <a:pt x="411992" y="441020"/>
                  <a:pt x="406795" y="479188"/>
                  <a:pt x="419008" y="513379"/>
                </a:cubicBezTo>
                <a:cubicBezTo>
                  <a:pt x="429932" y="543962"/>
                  <a:pt x="450089" y="571477"/>
                  <a:pt x="473054" y="594439"/>
                </a:cubicBezTo>
                <a:cubicBezTo>
                  <a:pt x="498190" y="619571"/>
                  <a:pt x="510055" y="627901"/>
                  <a:pt x="527101" y="661989"/>
                </a:cubicBezTo>
                <a:cubicBezTo>
                  <a:pt x="539818" y="687419"/>
                  <a:pt x="539476" y="725450"/>
                  <a:pt x="567636" y="743048"/>
                </a:cubicBezTo>
                <a:cubicBezTo>
                  <a:pt x="591792" y="758144"/>
                  <a:pt x="625004" y="754269"/>
                  <a:pt x="648706" y="770068"/>
                </a:cubicBezTo>
                <a:cubicBezTo>
                  <a:pt x="701092" y="804988"/>
                  <a:pt x="673836" y="791954"/>
                  <a:pt x="729776" y="810598"/>
                </a:cubicBezTo>
                <a:cubicBezTo>
                  <a:pt x="792830" y="806095"/>
                  <a:pt x="856156" y="804473"/>
                  <a:pt x="918938" y="797088"/>
                </a:cubicBezTo>
                <a:cubicBezTo>
                  <a:pt x="988620" y="788891"/>
                  <a:pt x="935904" y="783517"/>
                  <a:pt x="986497" y="743048"/>
                </a:cubicBezTo>
                <a:cubicBezTo>
                  <a:pt x="1004028" y="729025"/>
                  <a:pt x="1107226" y="716203"/>
                  <a:pt x="1108101" y="716028"/>
                </a:cubicBezTo>
                <a:cubicBezTo>
                  <a:pt x="1159149" y="705820"/>
                  <a:pt x="1191519" y="692729"/>
                  <a:pt x="1243218" y="675499"/>
                </a:cubicBezTo>
                <a:lnTo>
                  <a:pt x="1283753" y="661989"/>
                </a:lnTo>
                <a:cubicBezTo>
                  <a:pt x="1337799" y="666492"/>
                  <a:pt x="1395272" y="656033"/>
                  <a:pt x="1445892" y="675499"/>
                </a:cubicBezTo>
                <a:cubicBezTo>
                  <a:pt x="1463222" y="682164"/>
                  <a:pt x="1454068" y="711754"/>
                  <a:pt x="1459404" y="729538"/>
                </a:cubicBezTo>
                <a:cubicBezTo>
                  <a:pt x="1467589" y="756818"/>
                  <a:pt x="1477419" y="783578"/>
                  <a:pt x="1486427" y="810598"/>
                </a:cubicBezTo>
                <a:lnTo>
                  <a:pt x="1499939" y="851128"/>
                </a:lnTo>
                <a:cubicBezTo>
                  <a:pt x="1502999" y="872545"/>
                  <a:pt x="1529574" y="983617"/>
                  <a:pt x="1499939" y="1013248"/>
                </a:cubicBezTo>
                <a:cubicBezTo>
                  <a:pt x="1479796" y="1033389"/>
                  <a:pt x="1446503" y="1033360"/>
                  <a:pt x="1418869" y="1040268"/>
                </a:cubicBezTo>
                <a:cubicBezTo>
                  <a:pt x="1303494" y="1069108"/>
                  <a:pt x="1383345" y="1052455"/>
                  <a:pt x="1175660" y="1067288"/>
                </a:cubicBezTo>
                <a:cubicBezTo>
                  <a:pt x="1153140" y="1071791"/>
                  <a:pt x="1130381" y="1075229"/>
                  <a:pt x="1108101" y="1080798"/>
                </a:cubicBezTo>
                <a:cubicBezTo>
                  <a:pt x="1094284" y="1084252"/>
                  <a:pt x="1081808" y="1094308"/>
                  <a:pt x="1067566" y="1094308"/>
                </a:cubicBezTo>
                <a:cubicBezTo>
                  <a:pt x="1020997" y="1094308"/>
                  <a:pt x="907004" y="1078412"/>
                  <a:pt x="851380" y="1067288"/>
                </a:cubicBezTo>
                <a:cubicBezTo>
                  <a:pt x="725016" y="1042018"/>
                  <a:pt x="859819" y="1066020"/>
                  <a:pt x="756799" y="1040268"/>
                </a:cubicBezTo>
                <a:cubicBezTo>
                  <a:pt x="675341" y="1019906"/>
                  <a:pt x="665727" y="1027259"/>
                  <a:pt x="567636" y="1013248"/>
                </a:cubicBezTo>
                <a:cubicBezTo>
                  <a:pt x="544902" y="1010001"/>
                  <a:pt x="522597" y="1004241"/>
                  <a:pt x="500078" y="999738"/>
                </a:cubicBezTo>
                <a:cubicBezTo>
                  <a:pt x="482062" y="990731"/>
                  <a:pt x="463519" y="982710"/>
                  <a:pt x="446031" y="972718"/>
                </a:cubicBezTo>
                <a:cubicBezTo>
                  <a:pt x="431932" y="964662"/>
                  <a:pt x="420020" y="952959"/>
                  <a:pt x="405496" y="945698"/>
                </a:cubicBezTo>
                <a:cubicBezTo>
                  <a:pt x="392757" y="939329"/>
                  <a:pt x="378473" y="936691"/>
                  <a:pt x="364961" y="932188"/>
                </a:cubicBezTo>
                <a:cubicBezTo>
                  <a:pt x="355953" y="918678"/>
                  <a:pt x="344533" y="906496"/>
                  <a:pt x="337938" y="891658"/>
                </a:cubicBezTo>
                <a:cubicBezTo>
                  <a:pt x="326369" y="865631"/>
                  <a:pt x="334614" y="826396"/>
                  <a:pt x="310915" y="810598"/>
                </a:cubicBezTo>
                <a:lnTo>
                  <a:pt x="270380" y="783578"/>
                </a:lnTo>
                <a:cubicBezTo>
                  <a:pt x="261372" y="770068"/>
                  <a:pt x="250619" y="757571"/>
                  <a:pt x="243357" y="743048"/>
                </a:cubicBezTo>
                <a:cubicBezTo>
                  <a:pt x="236988" y="730311"/>
                  <a:pt x="238742" y="713638"/>
                  <a:pt x="229845" y="702518"/>
                </a:cubicBezTo>
                <a:cubicBezTo>
                  <a:pt x="219700" y="689839"/>
                  <a:pt x="202822" y="684505"/>
                  <a:pt x="189310" y="675499"/>
                </a:cubicBezTo>
                <a:cubicBezTo>
                  <a:pt x="184806" y="661989"/>
                  <a:pt x="182715" y="647418"/>
                  <a:pt x="175798" y="634969"/>
                </a:cubicBezTo>
                <a:cubicBezTo>
                  <a:pt x="160025" y="606581"/>
                  <a:pt x="132023" y="584717"/>
                  <a:pt x="121752" y="553909"/>
                </a:cubicBezTo>
                <a:cubicBezTo>
                  <a:pt x="117248" y="540399"/>
                  <a:pt x="115157" y="525828"/>
                  <a:pt x="108240" y="513379"/>
                </a:cubicBezTo>
                <a:cubicBezTo>
                  <a:pt x="92467" y="484991"/>
                  <a:pt x="64465" y="463127"/>
                  <a:pt x="54194" y="432319"/>
                </a:cubicBezTo>
                <a:lnTo>
                  <a:pt x="13659" y="310729"/>
                </a:lnTo>
                <a:lnTo>
                  <a:pt x="147" y="270199"/>
                </a:lnTo>
                <a:cubicBezTo>
                  <a:pt x="4651" y="207153"/>
                  <a:pt x="-9253" y="139968"/>
                  <a:pt x="13659" y="81060"/>
                </a:cubicBezTo>
                <a:cubicBezTo>
                  <a:pt x="25431" y="50792"/>
                  <a:pt x="63918" y="37289"/>
                  <a:pt x="94729" y="27020"/>
                </a:cubicBezTo>
                <a:lnTo>
                  <a:pt x="175798" y="0"/>
                </a:lnTo>
                <a:cubicBezTo>
                  <a:pt x="202821" y="4503"/>
                  <a:pt x="231216" y="3892"/>
                  <a:pt x="256868" y="13510"/>
                </a:cubicBezTo>
                <a:cubicBezTo>
                  <a:pt x="268795" y="17982"/>
                  <a:pt x="273945" y="32573"/>
                  <a:pt x="283892" y="40530"/>
                </a:cubicBezTo>
                <a:cubicBezTo>
                  <a:pt x="369116" y="108701"/>
                  <a:pt x="286200" y="29330"/>
                  <a:pt x="351450" y="94570"/>
                </a:cubicBezTo>
                <a:cubicBezTo>
                  <a:pt x="355954" y="108080"/>
                  <a:pt x="361507" y="121284"/>
                  <a:pt x="364961" y="135100"/>
                </a:cubicBezTo>
                <a:cubicBezTo>
                  <a:pt x="388190" y="228005"/>
                  <a:pt x="376221" y="213908"/>
                  <a:pt x="378473" y="229669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94"/>
          <p:cNvSpPr/>
          <p:nvPr/>
        </p:nvSpPr>
        <p:spPr>
          <a:xfrm flipH="1">
            <a:off x="2744280" y="2513160"/>
            <a:ext cx="430200" cy="307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99"/>
          <p:cNvSpPr/>
          <p:nvPr/>
        </p:nvSpPr>
        <p:spPr>
          <a:xfrm>
            <a:off x="2054160" y="3052800"/>
            <a:ext cx="141480" cy="217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102"/>
          <p:cNvSpPr/>
          <p:nvPr/>
        </p:nvSpPr>
        <p:spPr>
          <a:xfrm flipH="1">
            <a:off x="8027640" y="2421000"/>
            <a:ext cx="360360" cy="27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105"/>
          <p:cNvSpPr/>
          <p:nvPr/>
        </p:nvSpPr>
        <p:spPr>
          <a:xfrm>
            <a:off x="7321680" y="3191040"/>
            <a:ext cx="203040" cy="2469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aixaDeTexto 5"/>
          <p:cNvSpPr/>
          <p:nvPr/>
        </p:nvSpPr>
        <p:spPr>
          <a:xfrm>
            <a:off x="1835280" y="16606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aixaDeTexto 5"/>
          <p:cNvSpPr/>
          <p:nvPr/>
        </p:nvSpPr>
        <p:spPr>
          <a:xfrm>
            <a:off x="1619280" y="51894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82"/>
          <p:cNvSpPr/>
          <p:nvPr/>
        </p:nvSpPr>
        <p:spPr>
          <a:xfrm>
            <a:off x="5148360" y="105264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8"/>
          <p:cNvSpPr/>
          <p:nvPr/>
        </p:nvSpPr>
        <p:spPr>
          <a:xfrm>
            <a:off x="4788000" y="4842000"/>
            <a:ext cx="720720" cy="1224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41"/>
          <p:cNvSpPr/>
          <p:nvPr/>
        </p:nvSpPr>
        <p:spPr>
          <a:xfrm>
            <a:off x="2673360" y="5661000"/>
            <a:ext cx="2259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2198520" y="5291280"/>
            <a:ext cx="273384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Dynamic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4657680" y="1413000"/>
            <a:ext cx="1008000" cy="194472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aixaDeTexto 5"/>
          <p:cNvSpPr/>
          <p:nvPr/>
        </p:nvSpPr>
        <p:spPr>
          <a:xfrm>
            <a:off x="1332000" y="1197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aixaDeTexto 5"/>
          <p:cNvSpPr/>
          <p:nvPr/>
        </p:nvSpPr>
        <p:spPr>
          <a:xfrm>
            <a:off x="6413400" y="1197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aixaDeTexto 5"/>
          <p:cNvSpPr/>
          <p:nvPr/>
        </p:nvSpPr>
        <p:spPr>
          <a:xfrm>
            <a:off x="-441360" y="227664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aixaDeTexto 5"/>
          <p:cNvSpPr/>
          <p:nvPr/>
        </p:nvSpPr>
        <p:spPr>
          <a:xfrm>
            <a:off x="-396720" y="482904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4"/>
          <p:cNvSpPr/>
          <p:nvPr/>
        </p:nvSpPr>
        <p:spPr>
          <a:xfrm>
            <a:off x="25560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8"/>
          <p:cNvSpPr/>
          <p:nvPr/>
        </p:nvSpPr>
        <p:spPr>
          <a:xfrm>
            <a:off x="2340000" y="24922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9"/>
          <p:cNvSpPr/>
          <p:nvPr/>
        </p:nvSpPr>
        <p:spPr>
          <a:xfrm>
            <a:off x="320364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0"/>
          <p:cNvSpPr/>
          <p:nvPr/>
        </p:nvSpPr>
        <p:spPr>
          <a:xfrm>
            <a:off x="2771640" y="2781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1"/>
          <p:cNvSpPr/>
          <p:nvPr/>
        </p:nvSpPr>
        <p:spPr>
          <a:xfrm>
            <a:off x="1692360" y="2205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6"/>
          <p:cNvSpPr/>
          <p:nvPr/>
        </p:nvSpPr>
        <p:spPr>
          <a:xfrm>
            <a:off x="802800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7"/>
          <p:cNvSpPr/>
          <p:nvPr/>
        </p:nvSpPr>
        <p:spPr>
          <a:xfrm>
            <a:off x="8317080" y="206064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8"/>
          <p:cNvSpPr/>
          <p:nvPr/>
        </p:nvSpPr>
        <p:spPr>
          <a:xfrm>
            <a:off x="7380360" y="30099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29"/>
          <p:cNvSpPr/>
          <p:nvPr/>
        </p:nvSpPr>
        <p:spPr>
          <a:xfrm>
            <a:off x="7524720" y="2276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30"/>
          <p:cNvSpPr/>
          <p:nvPr/>
        </p:nvSpPr>
        <p:spPr>
          <a:xfrm>
            <a:off x="7093080" y="1844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59"/>
          <p:cNvSpPr/>
          <p:nvPr/>
        </p:nvSpPr>
        <p:spPr>
          <a:xfrm>
            <a:off x="2843280" y="2852640"/>
            <a:ext cx="20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60"/>
          <p:cNvSpPr/>
          <p:nvPr/>
        </p:nvSpPr>
        <p:spPr>
          <a:xfrm flipV="1">
            <a:off x="2411280" y="2565000"/>
            <a:ext cx="2521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61"/>
          <p:cNvSpPr/>
          <p:nvPr/>
        </p:nvSpPr>
        <p:spPr>
          <a:xfrm>
            <a:off x="2630520" y="1916280"/>
            <a:ext cx="446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62"/>
          <p:cNvSpPr/>
          <p:nvPr/>
        </p:nvSpPr>
        <p:spPr>
          <a:xfrm flipV="1">
            <a:off x="3279600" y="2133720"/>
            <a:ext cx="5037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63"/>
          <p:cNvSpPr/>
          <p:nvPr/>
        </p:nvSpPr>
        <p:spPr>
          <a:xfrm flipV="1">
            <a:off x="1776240" y="2276640"/>
            <a:ext cx="3156120" cy="10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66"/>
          <p:cNvSpPr/>
          <p:nvPr/>
        </p:nvSpPr>
        <p:spPr>
          <a:xfrm>
            <a:off x="5364000" y="3068640"/>
            <a:ext cx="208764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67"/>
          <p:cNvSpPr/>
          <p:nvPr/>
        </p:nvSpPr>
        <p:spPr>
          <a:xfrm flipV="1">
            <a:off x="5364000" y="2777760"/>
            <a:ext cx="2791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68"/>
          <p:cNvSpPr/>
          <p:nvPr/>
        </p:nvSpPr>
        <p:spPr>
          <a:xfrm flipV="1">
            <a:off x="5364000" y="2346480"/>
            <a:ext cx="22291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69"/>
          <p:cNvSpPr/>
          <p:nvPr/>
        </p:nvSpPr>
        <p:spPr>
          <a:xfrm flipH="1" flipV="1">
            <a:off x="4932000" y="2852640"/>
            <a:ext cx="4316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80"/>
          <p:cNvSpPr/>
          <p:nvPr/>
        </p:nvSpPr>
        <p:spPr>
          <a:xfrm flipH="1">
            <a:off x="4932000" y="2349360"/>
            <a:ext cx="4316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83"/>
          <p:cNvSpPr/>
          <p:nvPr/>
        </p:nvSpPr>
        <p:spPr>
          <a:xfrm flipH="1" flipV="1">
            <a:off x="4932000" y="2276640"/>
            <a:ext cx="43164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99"/>
          <p:cNvSpPr/>
          <p:nvPr/>
        </p:nvSpPr>
        <p:spPr>
          <a:xfrm>
            <a:off x="2124000" y="2924280"/>
            <a:ext cx="144360" cy="144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aixaDeTexto 5"/>
          <p:cNvSpPr/>
          <p:nvPr/>
        </p:nvSpPr>
        <p:spPr>
          <a:xfrm>
            <a:off x="1835280" y="16606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J:\Dropbox\1_2012\1_DOUTORADO\CONTEÚDO_TESE\2_AGEOGRAPHY_F\figures\Figure2.tif"/>
          <p:cNvPicPr/>
          <p:nvPr/>
        </p:nvPicPr>
        <p:blipFill>
          <a:blip r:embed="rId1"/>
          <a:srcRect l="0" t="0" r="49886" b="0"/>
          <a:stretch/>
        </p:blipFill>
        <p:spPr>
          <a:xfrm>
            <a:off x="1116000" y="4365720"/>
            <a:ext cx="2763720" cy="2163600"/>
          </a:xfrm>
          <a:prstGeom prst="rect">
            <a:avLst/>
          </a:prstGeom>
          <a:ln w="0">
            <a:noFill/>
          </a:ln>
        </p:spPr>
      </p:pic>
      <p:sp>
        <p:nvSpPr>
          <p:cNvPr id="288" name="Oval 24"/>
          <p:cNvSpPr/>
          <p:nvPr/>
        </p:nvSpPr>
        <p:spPr>
          <a:xfrm>
            <a:off x="7451640" y="5661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5"/>
          <p:cNvSpPr/>
          <p:nvPr/>
        </p:nvSpPr>
        <p:spPr>
          <a:xfrm>
            <a:off x="7956720" y="515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42"/>
          <p:cNvSpPr/>
          <p:nvPr/>
        </p:nvSpPr>
        <p:spPr>
          <a:xfrm>
            <a:off x="5364000" y="5732640"/>
            <a:ext cx="208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43"/>
          <p:cNvSpPr/>
          <p:nvPr/>
        </p:nvSpPr>
        <p:spPr>
          <a:xfrm flipV="1">
            <a:off x="5364000" y="5225760"/>
            <a:ext cx="26593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52"/>
          <p:cNvSpPr/>
          <p:nvPr/>
        </p:nvSpPr>
        <p:spPr>
          <a:xfrm flipV="1">
            <a:off x="4932360" y="5229000"/>
            <a:ext cx="43164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55"/>
          <p:cNvSpPr/>
          <p:nvPr/>
        </p:nvSpPr>
        <p:spPr>
          <a:xfrm flipH="1" flipV="1">
            <a:off x="4932000" y="5300640"/>
            <a:ext cx="43164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94"/>
          <p:cNvSpPr/>
          <p:nvPr/>
        </p:nvSpPr>
        <p:spPr>
          <a:xfrm flipH="1">
            <a:off x="2842920" y="2852640"/>
            <a:ext cx="14436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image"/>
          <p:cNvPicPr/>
          <p:nvPr/>
        </p:nvPicPr>
        <p:blipFill>
          <a:blip r:embed="rId2"/>
          <a:stretch/>
        </p:blipFill>
        <p:spPr>
          <a:xfrm>
            <a:off x="2124000" y="3429000"/>
            <a:ext cx="863640" cy="812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J:\Dropbox\1_2012\1_DOUTORADO\CONTEÚDO_TESE\2_AGEOGRAPHY_F\figures\Figure2.tif"/>
          <p:cNvPicPr/>
          <p:nvPr/>
        </p:nvPicPr>
        <p:blipFill>
          <a:blip r:embed="rId3"/>
          <a:srcRect l="50560" t="0" r="0" b="0"/>
          <a:stretch/>
        </p:blipFill>
        <p:spPr>
          <a:xfrm>
            <a:off x="6296040" y="4365720"/>
            <a:ext cx="2668680" cy="2117520"/>
          </a:xfrm>
          <a:prstGeom prst="rect">
            <a:avLst/>
          </a:prstGeom>
          <a:ln w="0">
            <a:noFill/>
          </a:ln>
        </p:spPr>
      </p:pic>
      <p:sp>
        <p:nvSpPr>
          <p:cNvPr id="297" name="Straight Connector 102"/>
          <p:cNvSpPr/>
          <p:nvPr/>
        </p:nvSpPr>
        <p:spPr>
          <a:xfrm flipH="1">
            <a:off x="8027640" y="2852640"/>
            <a:ext cx="14436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05"/>
          <p:cNvSpPr/>
          <p:nvPr/>
        </p:nvSpPr>
        <p:spPr>
          <a:xfrm>
            <a:off x="7451640" y="2924280"/>
            <a:ext cx="21600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9" descr="image"/>
          <p:cNvPicPr/>
          <p:nvPr/>
        </p:nvPicPr>
        <p:blipFill>
          <a:blip r:embed="rId4"/>
          <a:stretch/>
        </p:blipFill>
        <p:spPr>
          <a:xfrm>
            <a:off x="7380360" y="3429000"/>
            <a:ext cx="863640" cy="81288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4"/>
          <p:cNvSpPr/>
          <p:nvPr/>
        </p:nvSpPr>
        <p:spPr>
          <a:xfrm>
            <a:off x="6732720" y="1773360"/>
            <a:ext cx="1993680" cy="143964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5"/>
          <p:cNvSpPr/>
          <p:nvPr/>
        </p:nvSpPr>
        <p:spPr>
          <a:xfrm>
            <a:off x="1496880" y="1773360"/>
            <a:ext cx="1995480" cy="143964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4"/>
          <p:cNvSpPr/>
          <p:nvPr/>
        </p:nvSpPr>
        <p:spPr>
          <a:xfrm>
            <a:off x="3807000" y="5157720"/>
            <a:ext cx="982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5"/>
          <p:cNvSpPr/>
          <p:nvPr/>
        </p:nvSpPr>
        <p:spPr>
          <a:xfrm>
            <a:off x="1116000" y="4378320"/>
            <a:ext cx="503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6"/>
          <p:cNvSpPr/>
          <p:nvPr/>
        </p:nvSpPr>
        <p:spPr>
          <a:xfrm>
            <a:off x="8459640" y="4365720"/>
            <a:ext cx="505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hy modeling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 how the system beh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ulate future and alternative scen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experiments that are not feasible in the real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pport decision making and public policies using scientific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npo000030"/>
          <p:cNvPicPr/>
          <p:nvPr/>
        </p:nvPicPr>
        <p:blipFill>
          <a:blip r:embed="rId1"/>
          <a:stretch/>
        </p:blipFill>
        <p:spPr>
          <a:xfrm>
            <a:off x="4829040" y="0"/>
            <a:ext cx="4314960" cy="3475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ZapfHumnst BT"/>
                <a:ea typeface="DejaVu Sans"/>
              </a:rPr>
              <a:t>Global Change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5083200" cy="4343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glp_senegal"/>
          <p:cNvPicPr/>
          <p:nvPr/>
        </p:nvPicPr>
        <p:blipFill>
          <a:blip r:embed="rId3"/>
          <a:stretch/>
        </p:blipFill>
        <p:spPr>
          <a:xfrm>
            <a:off x="2590920" y="3276720"/>
            <a:ext cx="6553080" cy="35812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"/>
          <p:cNvPicPr/>
          <p:nvPr/>
        </p:nvPicPr>
        <p:blipFill>
          <a:blip r:embed="rId4"/>
          <a:stretch/>
        </p:blipFill>
        <p:spPr>
          <a:xfrm>
            <a:off x="0" y="327672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6"/>
          <p:cNvSpPr/>
          <p:nvPr/>
        </p:nvSpPr>
        <p:spPr>
          <a:xfrm>
            <a:off x="1387800" y="2643120"/>
            <a:ext cx="5753880" cy="18003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0000"/>
                </a:solidFill>
                <a:latin typeface="Calibri"/>
              </a:rPr>
              <a:t>Where</a:t>
            </a:r>
            <a:r>
              <a:rPr b="0" lang="pt-BR" sz="2800" spc="-1" strike="noStrike">
                <a:solidFill>
                  <a:srgbClr val="000066"/>
                </a:solidFill>
                <a:latin typeface="Calibri"/>
              </a:rPr>
              <a:t> are changes taking pl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0000"/>
                </a:solidFill>
                <a:latin typeface="Calibri"/>
              </a:rPr>
              <a:t>How much </a:t>
            </a:r>
            <a:r>
              <a:rPr b="0" lang="pt-BR" sz="2800" spc="-1" strike="noStrike">
                <a:solidFill>
                  <a:srgbClr val="000066"/>
                </a:solidFill>
                <a:latin typeface="Calibri"/>
              </a:rPr>
              <a:t>change is happen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0000"/>
                </a:solidFill>
                <a:latin typeface="Calibri"/>
              </a:rPr>
              <a:t>Who</a:t>
            </a:r>
            <a:r>
              <a:rPr b="0" lang="pt-BR" sz="2800" spc="-1" strike="noStrike">
                <a:solidFill>
                  <a:srgbClr val="000066"/>
                </a:solidFill>
                <a:latin typeface="Calibri"/>
              </a:rPr>
              <a:t> is being impacted by th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0000"/>
                </a:solidFill>
                <a:latin typeface="Calibri"/>
              </a:rPr>
              <a:t>What</a:t>
            </a:r>
            <a:r>
              <a:rPr b="0" lang="pt-BR" sz="2800" spc="-1" strike="noStrike">
                <a:solidFill>
                  <a:srgbClr val="000066"/>
                </a:solidFill>
                <a:latin typeface="Calibri"/>
              </a:rPr>
              <a:t> is causing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665360" y="0"/>
            <a:ext cx="5856120" cy="5814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Calibri"/>
              </a:rPr>
              <a:t>Human actions and glob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7500960" y="6521400"/>
            <a:ext cx="1643040" cy="30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hoto: A. Reen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7572240" y="0"/>
            <a:ext cx="1571760" cy="30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hoto: C. No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Modelling approach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ory-driven 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well accepted theor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ations are know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s are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-driven 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of inferential methods: statistical regression, neural networks, association rules, etc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not represent causal relationships  (cause-consequen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d on the assumption that the processes are statione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br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ater in a tube (bottle) model 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09480" y="126792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  #1: Where the water will stop? At the hole's top? At the hole's bottom? At the middl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3" descr="20140728_153426.jpg"/>
          <p:cNvPicPr/>
          <p:nvPr/>
        </p:nvPicPr>
        <p:blipFill>
          <a:blip r:embed="rId1"/>
          <a:stretch/>
        </p:blipFill>
        <p:spPr>
          <a:xfrm>
            <a:off x="4716360" y="2205000"/>
            <a:ext cx="3384720" cy="45118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20140725_161125.jpg"/>
          <p:cNvPicPr/>
          <p:nvPr/>
        </p:nvPicPr>
        <p:blipFill>
          <a:blip r:embed="rId2"/>
          <a:stretch/>
        </p:blipFill>
        <p:spPr>
          <a:xfrm>
            <a:off x="1117440" y="2205000"/>
            <a:ext cx="3383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hat is a model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46814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odel is 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implified represent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a phenomenon, process, actor, system, or any complex ent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3382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Observations can surprise you!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684360" y="1341360"/>
            <a:ext cx="77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#1: Where to water will stop? At the hole's top? At the hole's bottom? At the midd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Top of the 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ddle of the 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ttom of the 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ater in a tube (bottle) model 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09480" y="126792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  #2: Could you tell what will be the height of the water column at a given mo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3" descr="20140728_153426.jpg"/>
          <p:cNvPicPr/>
          <p:nvPr/>
        </p:nvPicPr>
        <p:blipFill>
          <a:blip r:embed="rId1"/>
          <a:stretch/>
        </p:blipFill>
        <p:spPr>
          <a:xfrm>
            <a:off x="4716360" y="2205000"/>
            <a:ext cx="3384720" cy="4511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20140725_161125.jpg"/>
          <p:cNvPicPr/>
          <p:nvPr/>
        </p:nvPicPr>
        <p:blipFill>
          <a:blip r:embed="rId2"/>
          <a:stretch/>
        </p:blipFill>
        <p:spPr>
          <a:xfrm>
            <a:off x="1117440" y="2205000"/>
            <a:ext cx="3383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ome data-driven mode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1260360" y="1916280"/>
            <a:ext cx="2448000" cy="21049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4"/>
          <p:cNvSpPr/>
          <p:nvPr/>
        </p:nvSpPr>
        <p:spPr>
          <a:xfrm>
            <a:off x="755640" y="1125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#2: Could you tell what will be the height of the water column at a given mo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4932360" y="1682640"/>
            <a:ext cx="3887640" cy="2333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3914640" cy="2349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"/>
          <p:cNvPicPr/>
          <p:nvPr/>
        </p:nvPicPr>
        <p:blipFill>
          <a:blip r:embed="rId4"/>
          <a:stretch/>
        </p:blipFill>
        <p:spPr>
          <a:xfrm>
            <a:off x="4929120" y="4292640"/>
            <a:ext cx="389088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ater in a tube (bottle) model 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09480" y="126792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  #3: Could you explain the process? I mean cause-effects relationships taking place in the experi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3" descr="20140728_153426.jpg"/>
          <p:cNvPicPr/>
          <p:nvPr/>
        </p:nvPicPr>
        <p:blipFill>
          <a:blip r:embed="rId1"/>
          <a:stretch/>
        </p:blipFill>
        <p:spPr>
          <a:xfrm>
            <a:off x="4716360" y="2205000"/>
            <a:ext cx="3384720" cy="4511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20140725_161125.jpg"/>
          <p:cNvPicPr/>
          <p:nvPr/>
        </p:nvPicPr>
        <p:blipFill>
          <a:blip r:embed="rId2"/>
          <a:stretch/>
        </p:blipFill>
        <p:spPr>
          <a:xfrm>
            <a:off x="1117440" y="2205000"/>
            <a:ext cx="3383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One theory–driven mode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09120" y="1196640"/>
            <a:ext cx="4683240" cy="6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 algn="just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rnoulli’s princip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 An increase in the speed of the fluid occurs simultaneously with a decrease in pressure or a decrease in the fluid's potential energ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446040" y="3925800"/>
            <a:ext cx="8734320" cy="27432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Daniel Bernoulli 001.jpg"/>
          <p:cNvPicPr/>
          <p:nvPr/>
        </p:nvPicPr>
        <p:blipFill>
          <a:blip r:embed="rId2"/>
          <a:stretch/>
        </p:blipFill>
        <p:spPr>
          <a:xfrm>
            <a:off x="5724360" y="1197000"/>
            <a:ext cx="2476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AGAIN: Modelling approach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ory-driven 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well accepted theor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ations are know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s are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-driven 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of inferential methods: statistical regression, neural networks, association rules, etc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not represent causal relationships  (cause-consequen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d on the assumption that the processes are statione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br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Modelling starts with a good question 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152352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 good mode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as a go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erves to answer a (scientific) ques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here is no GENERAL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nking in a map as a model for a region…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hich information layers (variables) will you draw in your map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10516631_879410908753206_2821932039521186617_n.jpg"/>
          <p:cNvPicPr/>
          <p:nvPr/>
        </p:nvPicPr>
        <p:blipFill>
          <a:blip r:embed="rId1"/>
          <a:stretch/>
        </p:blipFill>
        <p:spPr>
          <a:xfrm>
            <a:off x="755640" y="4005360"/>
            <a:ext cx="3984480" cy="2663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6156360" y="4068720"/>
            <a:ext cx="2736720" cy="25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ight Arrow 5"/>
          <p:cNvSpPr/>
          <p:nvPr/>
        </p:nvSpPr>
        <p:spPr>
          <a:xfrm>
            <a:off x="5148360" y="5084640"/>
            <a:ext cx="503280" cy="576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hen models need to be changed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hen they are not enougth to explain the observed phenomen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added variables or rules improve the model’s capacity in reproducing the observed behavior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  <a:ea typeface="DejaVu Sans"/>
              </a:rPr>
              <a:t>Models </a:t>
            </a:r>
            <a:r>
              <a:rPr b="1" i="1" lang="en-US" sz="2800" spc="-1" strike="noStrike">
                <a:solidFill>
                  <a:srgbClr val="003366"/>
                </a:solidFill>
                <a:latin typeface="Calibri"/>
                <a:ea typeface="DejaVu Sans"/>
              </a:rPr>
              <a:t>versus </a:t>
            </a:r>
            <a:r>
              <a:rPr b="1" lang="en-US" sz="2800" spc="-1" strike="noStrike">
                <a:solidFill>
                  <a:srgbClr val="003366"/>
                </a:solidFill>
                <a:latin typeface="Calibri"/>
                <a:ea typeface="DejaVu Sans"/>
              </a:rPr>
              <a:t>Scientific Knowledge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ruth is not tang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g that science knows about reality is a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Examples of models – atom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19664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visible entities over which matter is bui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lton, 1807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oli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omson, 1904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plum pu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therford, 191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ositive nucleus + negativ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ctrosp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hr, 1913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ucleus + electrons with different levels of ener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rondinger, Pauli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ubatomic partic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340x255"/>
          <p:cNvPicPr/>
          <p:nvPr/>
        </p:nvPicPr>
        <p:blipFill>
          <a:blip r:embed="rId1"/>
          <a:stretch/>
        </p:blipFill>
        <p:spPr>
          <a:xfrm>
            <a:off x="755640" y="4789440"/>
            <a:ext cx="1430280" cy="1447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átomo"/>
          <p:cNvPicPr/>
          <p:nvPr/>
        </p:nvPicPr>
        <p:blipFill>
          <a:blip r:embed="rId2"/>
          <a:stretch/>
        </p:blipFill>
        <p:spPr>
          <a:xfrm>
            <a:off x="4640400" y="4572000"/>
            <a:ext cx="1803240" cy="1757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bohr-medium"/>
          <p:cNvPicPr/>
          <p:nvPr/>
        </p:nvPicPr>
        <p:blipFill>
          <a:blip r:embed="rId3"/>
          <a:srcRect l="0" t="0" r="0" b="12887"/>
          <a:stretch/>
        </p:blipFill>
        <p:spPr>
          <a:xfrm>
            <a:off x="6804000" y="4567320"/>
            <a:ext cx="1800360" cy="1741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thomson-full"/>
          <p:cNvPicPr/>
          <p:nvPr/>
        </p:nvPicPr>
        <p:blipFill>
          <a:blip r:embed="rId4"/>
          <a:srcRect l="0" t="0" r="0" b="9758"/>
          <a:stretch/>
        </p:blipFill>
        <p:spPr>
          <a:xfrm>
            <a:off x="2367000" y="4538520"/>
            <a:ext cx="1989000" cy="17701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686880" y="63244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ton, 18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2526120" y="63244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mson, 19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1280" y="63244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herford, 19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7233480" y="62928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hr, 19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Examples of models – Shape of the Earth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125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where we live.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nvironm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a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rchaic belie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heric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ythagoras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570)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Suggested that Earth could be spheric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ristotle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330)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First evidence: semi-circular shadow at mo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ratosthene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240)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First estimate of Earth’s circum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thematic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cotsman McLaurin (1742)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Fl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rl Jacobi (1834)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Elipsoid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nri Poincaré (1885)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Perifor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ynamic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Modern geodes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McLaurin2"/>
          <p:cNvPicPr/>
          <p:nvPr/>
        </p:nvPicPr>
        <p:blipFill>
          <a:blip r:embed="rId1"/>
          <a:stretch/>
        </p:blipFill>
        <p:spPr>
          <a:xfrm>
            <a:off x="533520" y="4971960"/>
            <a:ext cx="1981080" cy="1479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modelo+geo+químico"/>
          <p:cNvPicPr/>
          <p:nvPr/>
        </p:nvPicPr>
        <p:blipFill>
          <a:blip r:embed="rId2"/>
          <a:stretch/>
        </p:blipFill>
        <p:spPr>
          <a:xfrm>
            <a:off x="2590920" y="4724280"/>
            <a:ext cx="1761840" cy="178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Piriforme3"/>
          <p:cNvPicPr/>
          <p:nvPr/>
        </p:nvPicPr>
        <p:blipFill>
          <a:blip r:embed="rId3"/>
          <a:stretch/>
        </p:blipFill>
        <p:spPr>
          <a:xfrm>
            <a:off x="6781680" y="49528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Quadric_globe"/>
          <p:cNvPicPr/>
          <p:nvPr/>
        </p:nvPicPr>
        <p:blipFill>
          <a:blip r:embed="rId4"/>
          <a:stretch/>
        </p:blipFill>
        <p:spPr>
          <a:xfrm>
            <a:off x="4572000" y="495288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1207080" y="6477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3051360" y="64771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h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5110200" y="64771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lips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7323480" y="64771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3" descr=""/>
          <p:cNvPicPr/>
          <p:nvPr/>
        </p:nvPicPr>
        <p:blipFill>
          <a:blip r:embed="rId5"/>
          <a:stretch/>
        </p:blipFill>
        <p:spPr>
          <a:xfrm>
            <a:off x="6858000" y="2057400"/>
            <a:ext cx="1905120" cy="1901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1" name="Rectangle 14"/>
          <p:cNvSpPr/>
          <p:nvPr/>
        </p:nvSpPr>
        <p:spPr>
          <a:xfrm>
            <a:off x="7030080" y="40384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ge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Models work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43" name="Picture 4" descr="250px-Crab_Nebula"/>
          <p:cNvPicPr/>
          <p:nvPr/>
        </p:nvPicPr>
        <p:blipFill>
          <a:blip r:embed="rId1"/>
          <a:stretch/>
        </p:blipFill>
        <p:spPr>
          <a:xfrm>
            <a:off x="6477120" y="990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6300720" y="3429000"/>
            <a:ext cx="26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ble: Photo of  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n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foto_cbers2_launch_1"/>
          <p:cNvPicPr/>
          <p:nvPr/>
        </p:nvPicPr>
        <p:blipFill>
          <a:blip r:embed="rId2"/>
          <a:stretch/>
        </p:blipFill>
        <p:spPr>
          <a:xfrm>
            <a:off x="474840" y="3457440"/>
            <a:ext cx="3809880" cy="25527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699480" y="612468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ellite launching r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iyuan, na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images"/>
          <p:cNvPicPr/>
          <p:nvPr/>
        </p:nvPicPr>
        <p:blipFill>
          <a:blip r:embed="rId3"/>
          <a:stretch/>
        </p:blipFill>
        <p:spPr>
          <a:xfrm>
            <a:off x="4800600" y="533520"/>
            <a:ext cx="1362240" cy="1338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image"/>
          <p:cNvPicPr/>
          <p:nvPr/>
        </p:nvPicPr>
        <p:blipFill>
          <a:blip r:embed="rId4"/>
          <a:stretch/>
        </p:blipFill>
        <p:spPr>
          <a:xfrm>
            <a:off x="4648320" y="2514600"/>
            <a:ext cx="1581120" cy="1487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1"/>
          <p:cNvSpPr/>
          <p:nvPr/>
        </p:nvSpPr>
        <p:spPr>
          <a:xfrm>
            <a:off x="4919760" y="39625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4294440" y="194940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PS conste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5029200" y="4876920"/>
                <a:ext cx="32767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1219320" y="1371600"/>
                <a:ext cx="16761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Which is the better model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54" name="Picture 3" descr="npo00000a"/>
          <p:cNvPicPr/>
          <p:nvPr/>
        </p:nvPicPr>
        <p:blipFill>
          <a:blip r:embed="rId1"/>
          <a:stretch/>
        </p:blipFill>
        <p:spPr>
          <a:xfrm>
            <a:off x="685800" y="1219320"/>
            <a:ext cx="3773520" cy="4952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npo00000c"/>
          <p:cNvPicPr/>
          <p:nvPr/>
        </p:nvPicPr>
        <p:blipFill>
          <a:blip r:embed="rId2"/>
          <a:stretch/>
        </p:blipFill>
        <p:spPr>
          <a:xfrm>
            <a:off x="5029200" y="1143000"/>
            <a:ext cx="38606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tiago</cp:lastModifiedBy>
  <cp:lastPrinted>2012-10-26T17:22:49Z</cp:lastPrinted>
  <dcterms:modified xsi:type="dcterms:W3CDTF">2014-07-29T14:24:47Z</dcterms:modified>
  <cp:revision>519</cp:revision>
  <dc:subject/>
  <dc:title>Low-carbon growth in Brazil?</dc:title>
</cp:coreProperties>
</file>